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9E0D-8AC8-4A30-9391-0329D54332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Straight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graph equations and find equations from grap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bles of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ble of values is used to generate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oints can be plotted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ight line drawn through these points creates the graph of the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ph y = 2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ot these points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traight line through the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ollowing straight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3x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3x +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a relationship between the graphs and their algebraic expressions!!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dient-Intercept Form of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linear function is written in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 is its gradient and the b is its y-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ollowing graphs, determine thei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9A9-6AD5-403B-92D0-B7FD5053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C98-E30F-434D-BC93-8198EEC3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975-CBD8-4609-8507-A6239580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9B36-C4A6-4BE1-9389-465C4EE7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93C-1880-4C5B-97C3-AF06C93D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4EA-946B-4647-8A69-DFC83B9A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E6B-55F3-46BE-BED4-E2360500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129-7AB6-48B1-90D8-0895059C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497-53E8-41B7-99A3-0C6186A1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EBB-264F-4E24-98C5-DB67F160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B28-0308-4D51-B105-BA5D9954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11B-DF55-457A-BBBA-29374AF6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A04D-5569-4B25-BD33-3C45D78D9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51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s of Straight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1080" y="2666880"/>
            <a:ext cx="6966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to graph equations and find equations from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01760" y="404640"/>
            <a:ext cx="64292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330200" y="420840"/>
            <a:ext cx="64771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330200" y="479520"/>
            <a:ext cx="646272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374840" y="477720"/>
            <a:ext cx="63658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of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of values is used to generat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oints can be plotted on the coordinate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aight line drawn through these points creates the graph of the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32000" y="2708280"/>
          <a:ext cx="6635520" cy="2192400"/>
        </p:xfrm>
        <a:graphic>
          <a:graphicData uri="http://schemas.openxmlformats.org/drawingml/2006/table">
            <a:tbl>
              <a:tblPr/>
              <a:tblGrid>
                <a:gridCol w="1106280"/>
                <a:gridCol w="1105200"/>
                <a:gridCol w="1106280"/>
                <a:gridCol w="1106640"/>
                <a:gridCol w="1104840"/>
                <a:gridCol w="1106280"/>
              </a:tblGrid>
              <a:tr h="109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30"/>
          <p:cNvSpPr/>
          <p:nvPr/>
        </p:nvSpPr>
        <p:spPr>
          <a:xfrm>
            <a:off x="2700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1"/>
          <p:cNvSpPr/>
          <p:nvPr/>
        </p:nvSpPr>
        <p:spPr>
          <a:xfrm>
            <a:off x="3708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4932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3"/>
          <p:cNvSpPr/>
          <p:nvPr/>
        </p:nvSpPr>
        <p:spPr>
          <a:xfrm>
            <a:off x="6084720" y="4073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4"/>
          <p:cNvSpPr/>
          <p:nvPr/>
        </p:nvSpPr>
        <p:spPr>
          <a:xfrm>
            <a:off x="7164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367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these points on th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324000" y="1700280"/>
          <a:ext cx="2952720" cy="792000"/>
        </p:xfrm>
        <a:graphic>
          <a:graphicData uri="http://schemas.openxmlformats.org/drawingml/2006/table">
            <a:tbl>
              <a:tblPr/>
              <a:tblGrid>
                <a:gridCol w="492120"/>
                <a:gridCol w="490320"/>
                <a:gridCol w="493920"/>
                <a:gridCol w="493560"/>
                <a:gridCol w="490680"/>
                <a:gridCol w="49212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Oval 87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8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9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0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1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28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traight line through th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sp>
        <p:nvSpPr>
          <p:cNvPr id="70" name="Oval 5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5819760" y="1495080"/>
            <a:ext cx="2067120" cy="4172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669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ollowing straight l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3x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x –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-3x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7"/>
              <p:cNvSpPr txBox="1"/>
              <p:nvPr/>
            </p:nvSpPr>
            <p:spPr>
              <a:xfrm>
                <a:off x="1076400" y="4581360"/>
                <a:ext cx="15145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Text Box 9"/>
          <p:cNvSpPr/>
          <p:nvPr/>
        </p:nvSpPr>
        <p:spPr>
          <a:xfrm>
            <a:off x="5064120" y="2511360"/>
            <a:ext cx="270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ok for a relationship between the graphs and their algebraic expressions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adient-Intercept Form of a Straigh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1600" y="2195640"/>
            <a:ext cx="811368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linear function is written in the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s gradient a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ts y-inter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’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ollowing graphs, determine their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57480" y="406440"/>
            <a:ext cx="646236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23:49:26Z</dcterms:created>
  <dc:creator>sgarvey</dc:creator>
  <dc:description/>
  <dc:language>en-US</dc:language>
  <cp:lastModifiedBy>RomaK</cp:lastModifiedBy>
  <dcterms:modified xsi:type="dcterms:W3CDTF">2015-09-04T07:41:46Z</dcterms:modified>
  <cp:revision>22</cp:revision>
  <dc:subject/>
  <dc:title>Graphs of Straight Lines</dc:title>
</cp:coreProperties>
</file>